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E14B-DB84-4CAF-903E-B4AC37C420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F44-E59E-488E-B0E9-6A83E136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E66-BB29-45FF-9F04-F8C99208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87B-8A82-4680-A4A7-DBF9B887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94A-18A4-4021-BDF2-62482EA1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F71-3A20-4112-B4BC-72B651F0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87A-7568-4709-8191-0173F71D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9F4-EC5C-4718-957F-7036F127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378-39A4-42D1-9B55-58129E7D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987-3126-4DDD-8A45-F3734B8E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FFB-2969-487E-8430-DEE02B02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0A0-F3C7-46BB-B625-60B2901E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7EF-01EA-48F2-A52E-12E27E76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EAFE-BE0D-4E9F-B10D-F4207993EC8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LEGION</cp:lastModifiedBy>
  <dcterms:modified xsi:type="dcterms:W3CDTF">2017-07-03T11:27:00Z</dcterms:modified>
  <cp:revision>8</cp:revision>
  <dc:subject>Why did the Mormons Manage to survive Salt Lake City?</dc:subject>
  <dc:title>Why did the Mormons Manage to survive Salt Lake City?</dc:title>
</cp:coreProperties>
</file>